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CB3-FBAA-43C1-AEA9-C3A81B01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43B-076C-4624-B1C1-15689302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B83-B6B5-4166-9805-EBEEBCDB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BE9-ECCC-43B9-A727-B5E95C6E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6BB-735F-474A-A5E3-F6C1AE97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D86-E70D-4D0C-899A-0640621C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5C2-6701-4374-8679-AD6AFBED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3BE-908C-4E0C-842C-7BD56E00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1CD-5AB7-4F5F-8104-1C88EC6A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B63-095F-4E21-A203-82CD124A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936-B770-41BE-AABA-96FE26B9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461-C4F2-49A7-8C1B-266671B0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E085-1169-466F-ACD1-C0982BDD8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fr.wikipedia.org/wiki/A&#233;roport_de_Marseille_Provence" TargetMode="External"/><Relationship Id="rId3" Type="http://schemas.openxmlformats.org/officeDocument/2006/relationships/hyperlink" Target="http://fr.wikipedia.org/wiki/A&#233;roport_de_Marseille_Provence" TargetMode="External"/><Relationship Id="rId4" Type="http://schemas.openxmlformats.org/officeDocument/2006/relationships/hyperlink" Target="http://fr.wikipedia.org/wiki/A&#233;roport_de_Marseille_Provence" TargetMode="External"/><Relationship Id="rId5" Type="http://schemas.openxmlformats.org/officeDocument/2006/relationships/hyperlink" Target="http://fr.wikipedia.org/wiki/A&#233;roport_de_Marseille_Provence" TargetMode="External"/><Relationship Id="rId6" Type="http://schemas.openxmlformats.org/officeDocument/2006/relationships/hyperlink" Target="http://fr.wikipedia.org/wiki/A&#233;roport_de_Marseille_Provence" TargetMode="External"/><Relationship Id="rId7" Type="http://schemas.openxmlformats.org/officeDocument/2006/relationships/hyperlink" Target="http://fr.wikipedia.org/wiki/A&#233;roport_de_Marseille_Provence" TargetMode="External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 u="sng">
                <a:solidFill>
                  <a:srgbClr val="000000"/>
                </a:solidFill>
                <a:uFillTx/>
                <a:latin typeface="Arial"/>
              </a:rPr>
              <a:t>Marseil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Palais</a:t>
            </a: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Long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chier:Marseille Palais Longchamp At Night JD 22052007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VD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Musé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Le Musée d’Histoire de Marseille 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ichier:Maison diamantée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Le musée du Vieux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Le Musée d'art contempor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Entrez sur l'annuaire SPORTS IN MARSEIL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BouillabaisseThaiStyle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4675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ouillabais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Pa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84360" y="14619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Bour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90600" y="1881360"/>
            <a:ext cx="476280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Le Tran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Arial"/>
              </a:rPr>
              <a:t>Mètr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74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mw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9999"/>
                </a:solidFill>
                <a:latin typeface="Arial"/>
              </a:rPr>
              <a:t>L'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éroport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ternational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arseille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Provence</a:t>
            </a:r>
            <a:r>
              <a:rPr b="0" lang="es-ES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Arial"/>
              </a:rPr>
              <a:t>Le Vieux-Port 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’abbaye 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Saint-Victor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ile:Notre Dame de la Gar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La Basilique de Notre Dame de la Garde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9:34:24Z</dcterms:created>
  <dc:creator>Anii</dc:creator>
  <dc:description/>
  <dc:language>en-US</dc:language>
  <cp:lastModifiedBy>Anii</cp:lastModifiedBy>
  <dcterms:modified xsi:type="dcterms:W3CDTF">2011-04-20T12:58:02Z</dcterms:modified>
  <cp:revision>4</cp:revision>
  <dc:subject/>
  <dc:title>Marseille</dc:title>
</cp:coreProperties>
</file>